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714-CB8F-4330-9E46-89C4CD4C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853-B801-45F8-ACA2-6AA10794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ECB-B768-4589-A6F8-0B67CE4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FE6-45D5-4275-82AB-220509B3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8B3-4C59-48CF-AF24-5B6C200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4F8-88E2-4C6F-99F2-4FC9BB0A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742-891C-4615-B4E0-B8107C7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D26-5D45-4FCD-BE8E-F5B4D466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C6F-53F9-4769-B547-F18343D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D4F-81FC-4271-8DC3-E38B54D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D4D-E6F8-4490-9E66-5E9266D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E3C-6785-4E2C-8C09-F5177AB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DB7-C424-45D0-B9B3-A112700B91C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8.3 Ethical Health Care Pro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At this very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ALMOST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</a:rPr>
              <a:t>1700 ONTARIO RESIDENTS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N, WOMEN AND CHILDREN, WHO ARE WAITING FOR A LIFE-SAVING ORGAN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AD REALITY IS THAT MANY DIE BEFORE A MATCHING ORGAN BECOME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THE ORGAN DONATION RATE IN ONTARIO I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alibri"/>
              </a:rPr>
              <a:t>13 DONORS PER MILLION POPULATION,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S THAN HALF OF WHAT IT SHOULD BE.  THAT MEANS THAT PEOPLE WHO COULD LIVE- IF THEY HAD A NEW HEART, LUNG, LIVER, KIDNEY, PANCREAS OR SMALL BOWEL- SIT ON A WAITING LIST, HOPING FOR A DO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needs are not being met because of a lack of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than 4,000 Canadians are waiting for an organ transplant, and thousands more need a tissue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00 to 300 Canadians die each year because there are not enough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LM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izwana, Sara, Brandon, J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ying and sel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blic Resources vs Personal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esumed Consent vs Inform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#3- Med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mbryo cloning-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uremburg Code (last in cold water, drinking only sea water, lungs bursting because of atmospheric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uremburg Code- Informed Con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#3- Medic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em Cell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pens up the debate about what constitutes a hum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esearchers ask why they shouldn’t be able to use excess eybryos from I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eligion- unethical to create human life and later destroy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34936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loo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ip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dent victims, surgical patients, people with 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ukemia patients, cancer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 suffering from burns or sh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yoprecip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 with hemophelia, people with other blood dis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5" name="Rectangle 5" descr=""/>
          <p:cNvPicPr/>
          <p:nvPr/>
        </p:nvPicPr>
        <p:blipFill>
          <a:blip r:embed="rId1"/>
          <a:stretch/>
        </p:blipFill>
        <p:spPr>
          <a:xfrm>
            <a:off x="182520" y="1365120"/>
            <a:ext cx="896796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til 1980’s  the CRC (Canadian Red Cross) was the agency responsible for collecting, storing and distributing bloo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mid 1980’s over 1200 Canadians contracted HIV from blood or blood products supplied by the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addition some were infected with   Hepatitis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hadn’t the CRC been able to ensure the safety of the blood supp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ny of the problems were from the screening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RC was unwilling to continue in the role if blood provider when it became obvious that greater government oversight was going to be implem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profit compan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vincial or Federal Gover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dependent agency responsible to the gov’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1 The Bl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end a new agency, funded by the federal and provincial governments , but independent of them, took over in 1998 (Canadian Blood Services [CBS]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2 Organ Har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deo: One Life…Many Gif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actical Issue: relates to grieving families and how we define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octors usually use the absence of brain waves as evidence of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amilies could use the heart beating as a sign of life even though loss of brain w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ical Issue #2 Organ Har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thical Issue: Who owns the organs in qu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GLF Trillium Gift of Life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76092"/>
                </a:solidFill>
                <a:latin typeface="Calibri"/>
              </a:rPr>
              <a:t>A future is yours to g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There is a crisis in Ontari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VERY 3 DAYS, SOMEONE IN THE PROVINCE DIES UNNECESSARILY </a:t>
            </a:r>
            <a:r>
              <a:rPr b="0" lang="en-CA" sz="4400" spc="-1" strike="noStrike">
                <a:solidFill>
                  <a:srgbClr val="ff0000"/>
                </a:solidFill>
                <a:latin typeface="Calibri"/>
              </a:rPr>
              <a:t>WHILE WAITING FOR AN ORGAN TRANS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09:23Z</dcterms:created>
  <dc:creator>Jason</dc:creator>
  <dc:description/>
  <dc:language>en-US</dc:language>
  <cp:lastModifiedBy>Jason</cp:lastModifiedBy>
  <dcterms:modified xsi:type="dcterms:W3CDTF">2011-05-25T16:11:21Z</dcterms:modified>
  <cp:revision>6</cp:revision>
  <dc:subject/>
  <dc:title>PowerPoint Presentation</dc:title>
</cp:coreProperties>
</file>